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3/31/10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1" marL="144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22716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3" marL="68580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4" marL="102888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5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6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2600" y="6502320"/>
            <a:ext cx="156852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1"/>
          </p:nvPr>
        </p:nvSpPr>
        <p:spPr>
          <a:xfrm>
            <a:off x="4509720" y="77760"/>
            <a:ext cx="432900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3D376163-8F97-4743-8073-80624979B26F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F50E86F1-7921-45EB-8E27-31B44C06327A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5:1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10080" y="77760"/>
            <a:ext cx="43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4AFE354E-95EE-40B9-9FBE-A3C13865DA2D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0FC1942F-51ED-4DCE-83B2-F53DEE6869C2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5:1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720" y="115560"/>
            <a:ext cx="1981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9/30/08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98960" y="646200"/>
            <a:ext cx="564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Ma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Valuation Summary of the BREP Funds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82680" y="139860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70080" y="1270080"/>
            <a:ext cx="698400" cy="172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1640" y="1746360"/>
            <a:ext cx="8528040" cy="1954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79600" y="4146480"/>
            <a:ext cx="6130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Assets Valued at Option Value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10960" y="1065240"/>
            <a:ext cx="147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70080" y="1270080"/>
            <a:ext cx="698400" cy="172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8640" y="6470280"/>
            <a:ext cx="5747040" cy="261360"/>
          </a:xfrm>
          <a:prstGeom prst="rect">
            <a:avLst/>
          </a:prstGeom>
          <a:solidFill>
            <a:srgbClr val="fef1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 remaining investments are valued using a discounted cash flow mo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3360" y="1260360"/>
            <a:ext cx="6931080" cy="3022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39840" y="4289400"/>
            <a:ext cx="822780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91960" y="730080"/>
            <a:ext cx="265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98960" y="564840"/>
            <a:ext cx="5649840" cy="426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Subject to </a:t>
            </a:r>
            <a:br>
              <a:rPr sz="1400"/>
            </a:b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Write-Ups / Downs at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266760" y="114624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note"/>
          <p:cNvSpPr/>
          <p:nvPr/>
        </p:nvSpPr>
        <p:spPr>
          <a:xfrm>
            <a:off x="369720" y="5797800"/>
            <a:ext cx="734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: Non USD investments are reflected at the acquisition foreign exchange rate in the above analysis and are marked to market in BX GAAP repor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5960" y="1393920"/>
            <a:ext cx="85345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1960" y="730080"/>
            <a:ext cx="265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98960" y="564840"/>
            <a:ext cx="5649840" cy="426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Subject to </a:t>
            </a:r>
            <a:br>
              <a:rPr sz="1400"/>
            </a:b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Write-Ups / Downs at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266760" y="114624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note"/>
          <p:cNvSpPr/>
          <p:nvPr/>
        </p:nvSpPr>
        <p:spPr>
          <a:xfrm>
            <a:off x="379440" y="5893200"/>
            <a:ext cx="734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: Non USD investments are reflected at the acquisition foreign exchange rate in the above analysis and are marked to market in BX GAAP repor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6600" y="1203480"/>
            <a:ext cx="86900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Held at 12/31/09 Valuations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214200" y="1084320"/>
            <a:ext cx="147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8840" y="1365120"/>
            <a:ext cx="863424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Held at 12/31/09 Valuations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214200" y="1103400"/>
            <a:ext cx="147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8200" y="1393920"/>
            <a:ext cx="871056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13:30Z</dcterms:created>
  <dc:creator>TBG</dc:creator>
  <dc:description/>
  <dc:language>en-US</dc:language>
  <cp:lastModifiedBy>LEVYD</cp:lastModifiedBy>
  <cp:lastPrinted>2008-04-09T04:03:18Z</cp:lastPrinted>
  <dcterms:modified xsi:type="dcterms:W3CDTF">2010-03-22T20:46:52Z</dcterms:modified>
  <cp:revision>5179</cp:revision>
  <dc:subject/>
  <dc:title>Page Title</dc:title>
</cp:coreProperties>
</file>